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3E1CD-0244-4403-BE3C-08112081C3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28A-9B6E-416E-8FDD-E9F31DEC3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DB0B0-668B-48E4-A351-4C210C2AB3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BAB6-D9F7-462E-8339-F79D8A7382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71039-EC32-4ED6-AFD2-C6D5FA5B70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A5CDB-E3D1-451D-8F96-4C6F20A910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7306-4162-4A8D-976D-7EFA5A324D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92791-D233-400D-823D-69FACE953A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2D12-5B25-4838-975B-ADF4954B45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4F9E-3FEB-44D7-8D04-1816FFD5D5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BE4E-72FE-416D-996C-79C7E96812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9DE8-FD9A-4579-AB04-36C50EA75F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image" Target="../media/image1.png"/><Relationship Id="rId49" Type="http://schemas.openxmlformats.org/officeDocument/2006/relationships/image" Target="../media/image1.png"/><Relationship Id="rId50" Type="http://schemas.openxmlformats.org/officeDocument/2006/relationships/image" Target="../media/image1.png"/><Relationship Id="rId51" Type="http://schemas.openxmlformats.org/officeDocument/2006/relationships/image" Target="../media/image1.png"/><Relationship Id="rId52" Type="http://schemas.openxmlformats.org/officeDocument/2006/relationships/image" Target="../media/image1.png"/><Relationship Id="rId53" Type="http://schemas.openxmlformats.org/officeDocument/2006/relationships/image" Target="../media/image1.png"/><Relationship Id="rId54" Type="http://schemas.openxmlformats.org/officeDocument/2006/relationships/image" Target="../media/image1.png"/><Relationship Id="rId55" Type="http://schemas.openxmlformats.org/officeDocument/2006/relationships/image" Target="../media/image1.png"/><Relationship Id="rId56" Type="http://schemas.openxmlformats.org/officeDocument/2006/relationships/image" Target="../media/image1.png"/><Relationship Id="rId57" Type="http://schemas.openxmlformats.org/officeDocument/2006/relationships/image" Target="../media/image1.png"/><Relationship Id="rId58" Type="http://schemas.openxmlformats.org/officeDocument/2006/relationships/image" Target="../media/image1.png"/><Relationship Id="rId59" Type="http://schemas.openxmlformats.org/officeDocument/2006/relationships/image" Target="../media/image1.png"/><Relationship Id="rId60" Type="http://schemas.openxmlformats.org/officeDocument/2006/relationships/image" Target="../media/image1.png"/><Relationship Id="rId61" Type="http://schemas.openxmlformats.org/officeDocument/2006/relationships/image" Target="../media/image1.png"/><Relationship Id="rId62" Type="http://schemas.openxmlformats.org/officeDocument/2006/relationships/slideLayout" Target="../slideLayouts/slideLayout13.xml"/><Relationship Id="rId63" Type="http://schemas.openxmlformats.org/officeDocument/2006/relationships/slideLayout" Target="../slideLayouts/slideLayout14.xml"/><Relationship Id="rId64" Type="http://schemas.openxmlformats.org/officeDocument/2006/relationships/slideLayout" Target="../slideLayouts/slideLayout15.xml"/><Relationship Id="rId65" Type="http://schemas.openxmlformats.org/officeDocument/2006/relationships/slideLayout" Target="../slideLayouts/slideLayout16.xml"/><Relationship Id="rId66" Type="http://schemas.openxmlformats.org/officeDocument/2006/relationships/slideLayout" Target="../slideLayouts/slideLayout17.xml"/><Relationship Id="rId67" Type="http://schemas.openxmlformats.org/officeDocument/2006/relationships/slideLayout" Target="../slideLayouts/slideLayout18.xml"/><Relationship Id="rId68" Type="http://schemas.openxmlformats.org/officeDocument/2006/relationships/slideLayout" Target="../slideLayouts/slideLayout19.xml"/><Relationship Id="rId69" Type="http://schemas.openxmlformats.org/officeDocument/2006/relationships/slideLayout" Target="../slideLayouts/slideLayout20.xml"/><Relationship Id="rId70" Type="http://schemas.openxmlformats.org/officeDocument/2006/relationships/slideLayout" Target="../slideLayouts/slideLayout21.xml"/><Relationship Id="rId71" Type="http://schemas.openxmlformats.org/officeDocument/2006/relationships/slideLayout" Target="../slideLayouts/slideLayout22.xml"/><Relationship Id="rId72" Type="http://schemas.openxmlformats.org/officeDocument/2006/relationships/slideLayout" Target="../slideLayouts/slideLayout23.xml"/><Relationship Id="rId7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16120"/>
            <a:ext cx="6950160" cy="7452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419720" y="6369480"/>
            <a:ext cx="129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67A-D9A5-4556-81F0-C007B88383B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3240" y="-9360"/>
            <a:ext cx="9068040" cy="6867360"/>
            <a:chOff x="-3240" y="-9360"/>
            <a:chExt cx="9068040" cy="6867360"/>
          </a:xfrm>
        </p:grpSpPr>
        <p:sp>
          <p:nvSpPr>
            <p:cNvPr id="42" name=""/>
            <p:cNvSpPr/>
            <p:nvPr/>
          </p:nvSpPr>
          <p:spPr>
            <a:xfrm>
              <a:off x="-3240" y="-9360"/>
              <a:ext cx="7632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9400" y="0"/>
              <a:ext cx="7596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1680" y="0"/>
              <a:ext cx="76320" cy="6858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3960" y="0"/>
              <a:ext cx="76320" cy="68580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6600" y="0"/>
              <a:ext cx="75960" cy="68580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8880" y="0"/>
              <a:ext cx="76320" cy="68580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1160" y="0"/>
              <a:ext cx="76320" cy="68580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3800" y="0"/>
              <a:ext cx="75960" cy="68580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16080" y="0"/>
              <a:ext cx="76320" cy="68580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68360" y="0"/>
              <a:ext cx="76320" cy="6858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1000" y="0"/>
              <a:ext cx="75960" cy="6858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73280" y="0"/>
              <a:ext cx="76320" cy="6858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5560" y="0"/>
              <a:ext cx="76320" cy="68580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78200" y="0"/>
              <a:ext cx="75960" cy="68580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30480" y="0"/>
              <a:ext cx="76320" cy="68580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2760" y="0"/>
              <a:ext cx="76320" cy="68580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35400" y="0"/>
              <a:ext cx="75960" cy="68580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87680" y="0"/>
              <a:ext cx="76320" cy="68580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39960" y="0"/>
              <a:ext cx="76320" cy="68580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2600" y="0"/>
              <a:ext cx="75960" cy="68580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4880" y="0"/>
              <a:ext cx="76320" cy="68580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97160" y="0"/>
              <a:ext cx="76320" cy="68580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49800" y="0"/>
              <a:ext cx="75960" cy="68580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2080" y="0"/>
              <a:ext cx="76320" cy="68580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4360" y="0"/>
              <a:ext cx="76320" cy="68580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7000" y="0"/>
              <a:ext cx="75960" cy="68580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9280" y="0"/>
              <a:ext cx="76320" cy="68580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1560" y="0"/>
              <a:ext cx="76320" cy="68580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4200" y="0"/>
              <a:ext cx="75960" cy="68580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416480" y="0"/>
              <a:ext cx="76320" cy="68580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68760" y="0"/>
              <a:ext cx="76320" cy="68580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1400" y="0"/>
              <a:ext cx="75960" cy="68580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3680" y="0"/>
              <a:ext cx="76320" cy="68580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25960" y="0"/>
              <a:ext cx="76320" cy="68580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8600" y="0"/>
              <a:ext cx="75960" cy="68580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330880" y="0"/>
              <a:ext cx="76320" cy="68580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3160" y="0"/>
              <a:ext cx="76320" cy="68580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35800" y="0"/>
              <a:ext cx="75960" cy="68580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88080" y="0"/>
              <a:ext cx="76320" cy="68580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0360" y="0"/>
              <a:ext cx="76320" cy="6858000"/>
            </a:xfrm>
            <a:prstGeom prst="rect">
              <a:avLst/>
            </a:prstGeom>
            <a:blipFill rotWithShape="0">
              <a:blip r:embed="rId4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3000" y="0"/>
              <a:ext cx="75960" cy="6858000"/>
            </a:xfrm>
            <a:prstGeom prst="rect">
              <a:avLst/>
            </a:prstGeom>
            <a:blipFill rotWithShape="0">
              <a:blip r:embed="rId4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45280" y="0"/>
              <a:ext cx="76320" cy="6858000"/>
            </a:xfrm>
            <a:prstGeom prst="rect">
              <a:avLst/>
            </a:pr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97560" y="0"/>
              <a:ext cx="76320" cy="6858000"/>
            </a:xfrm>
            <a:prstGeom prst="rect">
              <a:avLst/>
            </a:prstGeom>
            <a:blipFill rotWithShape="0">
              <a:blip r:embed="rId4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0200" y="0"/>
              <a:ext cx="75960" cy="6858000"/>
            </a:xfrm>
            <a:prstGeom prst="rect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702480" y="0"/>
              <a:ext cx="76320" cy="6858000"/>
            </a:xfrm>
            <a:prstGeom prst="rect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4760" y="0"/>
              <a:ext cx="76320" cy="6858000"/>
            </a:xfrm>
            <a:prstGeom prst="rect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07400" y="0"/>
              <a:ext cx="75960" cy="6858000"/>
            </a:xfrm>
            <a:prstGeom prst="rect">
              <a:avLst/>
            </a:pr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59680" y="0"/>
              <a:ext cx="76320" cy="6858000"/>
            </a:xfrm>
            <a:prstGeom prst="rect">
              <a:avLst/>
            </a:pr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11960" y="0"/>
              <a:ext cx="76320" cy="6858000"/>
            </a:xfrm>
            <a:prstGeom prst="rect">
              <a:avLst/>
            </a:pr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4600" y="0"/>
              <a:ext cx="75960" cy="6858000"/>
            </a:xfrm>
            <a:prstGeom prst="rect">
              <a:avLst/>
            </a:pr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6880" y="0"/>
              <a:ext cx="76320" cy="6858000"/>
            </a:xfrm>
            <a:prstGeom prst="rect">
              <a:avLst/>
            </a:pr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69160" y="0"/>
              <a:ext cx="76320" cy="6858000"/>
            </a:xfrm>
            <a:prstGeom prst="rect">
              <a:avLst/>
            </a:pr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21800" y="0"/>
              <a:ext cx="75960" cy="6858000"/>
            </a:xfrm>
            <a:prstGeom prst="rect">
              <a:avLst/>
            </a:pr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74080" y="0"/>
              <a:ext cx="76320" cy="6858000"/>
            </a:xfrm>
            <a:prstGeom prst="rect">
              <a:avLst/>
            </a:pr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226360" y="0"/>
              <a:ext cx="76320" cy="6858000"/>
            </a:xfrm>
            <a:prstGeom prst="rect">
              <a:avLst/>
            </a:prstGeom>
            <a:blipFill rotWithShape="0">
              <a:blip r:embed="rId5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79000" y="0"/>
              <a:ext cx="75960" cy="6858000"/>
            </a:xfrm>
            <a:prstGeom prst="rect">
              <a:avLst/>
            </a:prstGeom>
            <a:blipFill rotWithShape="0">
              <a:blip r:embed="rId5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531280" y="0"/>
              <a:ext cx="76320" cy="6858000"/>
            </a:xfrm>
            <a:prstGeom prst="rect">
              <a:avLst/>
            </a:pr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83560" y="0"/>
              <a:ext cx="76320" cy="6858000"/>
            </a:xfrm>
            <a:prstGeom prst="rect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836200" y="0"/>
              <a:ext cx="75960" cy="6858000"/>
            </a:xfrm>
            <a:prstGeom prst="rect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88480" y="0"/>
              <a:ext cx="76320" cy="6858000"/>
            </a:xfrm>
            <a:prstGeom prst="rect">
              <a:avLst/>
            </a:prstGeom>
            <a:blipFill rotWithShape="0">
              <a:blip r:embed="rId6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762120" y="0"/>
            <a:ext cx="8381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-9360"/>
            <a:ext cx="9144000" cy="50940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Num" idx="1"/>
          </p:nvPr>
        </p:nvSpPr>
        <p:spPr>
          <a:xfrm>
            <a:off x="3581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607E-6123-45CF-A9B7-9DC87F8795E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2"/>
    <p:sldLayoutId id="2147483663" r:id="rId63"/>
    <p:sldLayoutId id="2147483664" r:id="rId64"/>
    <p:sldLayoutId id="2147483665" r:id="rId65"/>
    <p:sldLayoutId id="2147483666" r:id="rId66"/>
    <p:sldLayoutId id="2147483667" r:id="rId67"/>
    <p:sldLayoutId id="2147483668" r:id="rId68"/>
    <p:sldLayoutId id="2147483669" r:id="rId69"/>
    <p:sldLayoutId id="2147483670" r:id="rId70"/>
    <p:sldLayoutId id="2147483671" r:id="rId71"/>
    <p:sldLayoutId id="2147483672" r:id="rId72"/>
    <p:sldLayoutId id="2147483673" r:id="rId7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1188720"/>
            <a:ext cx="784836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The CBorg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Verdana"/>
              </a:rPr>
              <a:t>Mobile Agent System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160" y="2895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809880"/>
            <a:ext cx="85345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rner Van Belle ; Karsten Verel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han Fabry ; Theo D’Hon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ing Technology Lab (PRO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ement Computer Science (DIN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rije Universiteit Brussel (V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ICO/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Eval -Appl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:b:2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:read(“a+b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(ag)  -&gt; 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(a,b)::a+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(1,2) -&gt;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@[1,2] -&gt;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ICO/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Variable Argume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@args: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sum: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(I:1,I&lt;=size(args), I:=I+1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:=sum+args[I]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m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(1,2,3) -&gt;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@[1,2,3,4] -&gt; 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ICO/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Call by Nam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:5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(f())::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ed:delay(display(a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:=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ed(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ICO/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Objec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makePoi(x,y):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move(X,Y) ::  { x := X; y := Y 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a() :: 0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qu(w) :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widen(W) :: w := 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a() :: w^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ne() 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ne() 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int: makePoi(0,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uare: Point.makeSqu(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quare.area()   --&gt;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3429000"/>
            <a:ext cx="7315200" cy="1447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Creation/Kill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ac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ynam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eateagent(&lt;object&gt;,&lt;name&gt;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die(agen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3430080" y="3826440"/>
            <a:ext cx="4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00" y="5333040"/>
            <a:ext cx="5344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kes a deep copy of the &lt;objec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super will not be cop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Communic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243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ra.vub.ac.be/ses1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:agent(“void.tecra/dis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alculate([[1,2],[3,4]]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.tecra/disc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culate(matrix)::display(matri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226080" y="4647600"/>
            <a:ext cx="64396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utomatic serialisation and deseria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ransparant rou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onnection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Callback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752480"/>
            <a:ext cx="8002440" cy="27432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ra.vub.ac.be/ses1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:agent(“void.tecra/negate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.calculate([[1,2]],agentself()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&gt; 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d.tecra/negat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lculate(matrix,resultto):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sultto.display(negate(matrix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723920"/>
            <a:ext cx="531360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Asynchronous 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Queued at receiv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eturns always void at sende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Serialis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162560" cy="3581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ra/ses1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point(x,y):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show()::display(x+”:“+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one()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agent(“tecra/ses2”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:makepoint(10,2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.show(p)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-&gt; 10: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ra/ses2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ow(p)::p.show(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4419360" y="4952160"/>
            <a:ext cx="396936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ass objects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primitives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ak Mi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t can only migrate whenever the agent has stored its entire state in its ob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operation from the agent is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should be written in a special ‘state’-based man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ong Mig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any moment an agent can migrate to another place without any special requirements towards th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t doesn’t need to take special precautions when execu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gent doesn’t have to ‘cooperate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de mobility becomes usefu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-- The Ag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--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-- the language (pic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 -- commun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 --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-- Demons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-- Inter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--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se of Migration (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1600200"/>
          <a:ext cx="90234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023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se of Migration (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320" y="1523880"/>
          <a:ext cx="91422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523880"/>
                    <a:ext cx="91422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se of Migration (I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4132440"/>
            <a:ext cx="1941480" cy="198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95840" y="1884240"/>
            <a:ext cx="1941480" cy="1984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45320" y="3603600"/>
            <a:ext cx="1941480" cy="251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98720" y="426564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87840" y="2413080"/>
            <a:ext cx="53964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21320" y="505764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90720" y="4529160"/>
            <a:ext cx="108000" cy="13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430360" y="2943000"/>
            <a:ext cx="2157480" cy="14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538000" y="3206880"/>
            <a:ext cx="2157480" cy="14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38360" y="4794120"/>
            <a:ext cx="388296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430360" y="5057280"/>
            <a:ext cx="39909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84960" y="492588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3320" y="413244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76960" y="360360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00960" y="386856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15160" y="452916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39160" y="413244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39160" y="49258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00960" y="532296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61320" y="49258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11840" y="201780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43480" y="2413080"/>
            <a:ext cx="53820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19840" y="294336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43480" y="175248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73680" y="188424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97680" y="25462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65680" y="280980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66720" y="4660920"/>
            <a:ext cx="54000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20880" y="439740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28880" y="5191200"/>
            <a:ext cx="5378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4480" y="319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35720" y="373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3280" y="479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6600" y="533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Use of Migration (III)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4132440"/>
            <a:ext cx="1941480" cy="198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95840" y="1884240"/>
            <a:ext cx="1941480" cy="1984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45320" y="3603600"/>
            <a:ext cx="1941480" cy="2513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1080" y="426708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87840" y="2413080"/>
            <a:ext cx="53964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21320" y="505764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90720" y="4529160"/>
            <a:ext cx="108000" cy="13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430360" y="2943000"/>
            <a:ext cx="2157480" cy="14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648320" y="3206880"/>
            <a:ext cx="47520" cy="9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2200" y="4952880"/>
            <a:ext cx="30168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2430360" y="5057280"/>
            <a:ext cx="399096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84960" y="492588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3320" y="413244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76960" y="360360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00960" y="386856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715160" y="452916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39160" y="413244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39160" y="49258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00960" y="532296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61320" y="49258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11840" y="201780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43480" y="2413080"/>
            <a:ext cx="53820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19840" y="2943360"/>
            <a:ext cx="539640" cy="925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43480" y="175248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73680" y="188424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7680" y="2546280"/>
            <a:ext cx="5396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65680" y="280980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66720" y="4660920"/>
            <a:ext cx="540000" cy="927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4397400"/>
            <a:ext cx="5382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5191200"/>
            <a:ext cx="53784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54480" y="319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26080" y="380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21720" y="502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6600" y="533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4038480"/>
            <a:ext cx="540000" cy="92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19520" y="4191120"/>
            <a:ext cx="1247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295280" y="3352680"/>
            <a:ext cx="7315200" cy="10670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002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Borg supports the notion of strong mig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gentmove(place(“void.tecra”)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/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20574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c(n):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(n\\1 = 0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move(place(“tecra/ses1”)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gentmove(place(“void.tecra/ses1”)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(n=1,1,n*Fac(n-1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343080" y="1820880"/>
            <a:ext cx="109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vervie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-- The Ag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-- Demons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 -- Inter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-- Naming and Rou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--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 --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ing and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outing Problem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ever an agent migrates its name chan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s name shouldn’t change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do we route messages 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2438280" y="3276720"/>
            <a:ext cx="533520" cy="1828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2895480"/>
            <a:ext cx="35053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9040" y="24357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8480" y="4340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11840" y="495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829880" y="243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8680" y="525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bile Multi Agent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bile Agent is an Active Autonomous Compon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le to Communicate with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le to Migrate to other ‘Agent System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gent system is the “Operating System” to support these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2438280" y="3276720"/>
            <a:ext cx="533520" cy="1828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666880" y="2895480"/>
            <a:ext cx="35053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59040" y="243576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58480" y="43408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2666880" y="2971440"/>
            <a:ext cx="4713840" cy="1523880"/>
            <a:chOff x="2666880" y="2971440"/>
            <a:chExt cx="4713840" cy="1523880"/>
          </a:xfrm>
        </p:grpSpPr>
        <p:grpSp>
          <p:nvGrpSpPr>
            <p:cNvPr id="305" name=""/>
            <p:cNvGrpSpPr/>
            <p:nvPr/>
          </p:nvGrpSpPr>
          <p:grpSpPr>
            <a:xfrm>
              <a:off x="6232320" y="3352680"/>
              <a:ext cx="1148400" cy="838440"/>
              <a:chOff x="6232320" y="3352680"/>
              <a:chExt cx="1148400" cy="838440"/>
            </a:xfrm>
          </p:grpSpPr>
          <p:sp>
            <p:nvSpPr>
              <p:cNvPr id="306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232320" y="339624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666880" y="2971440"/>
              <a:ext cx="3657600" cy="1523880"/>
              <a:chOff x="2666880" y="2971440"/>
              <a:chExt cx="3657600" cy="1523880"/>
            </a:xfrm>
          </p:grpSpPr>
          <p:sp>
            <p:nvSpPr>
              <p:cNvPr id="309" name=""/>
              <p:cNvSpPr/>
              <p:nvPr/>
            </p:nvSpPr>
            <p:spPr>
              <a:xfrm flipH="1" flipV="1">
                <a:off x="2666880" y="2971440"/>
                <a:ext cx="3657600" cy="1523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885480" y="3425760"/>
                <a:ext cx="1851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location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1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11840" y="4950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29880" y="2435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8680" y="525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ging is eas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 is slowed dow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acting agent clusters are slow when migr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rward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2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ho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real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inform home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migrate to new (nearby)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133720" y="3124080"/>
            <a:ext cx="4114800" cy="198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10760" y="45694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198108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92880" y="472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01280" y="258840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96720" y="5025960"/>
            <a:ext cx="81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6240" y="182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4480" y="2207160"/>
            <a:ext cx="96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600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2133720" y="3124080"/>
            <a:ext cx="4114800" cy="1981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0760" y="45694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1981080"/>
            <a:ext cx="1067040" cy="9907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09680" y="2895480"/>
            <a:ext cx="5171040" cy="2514600"/>
            <a:chOff x="2209680" y="2895480"/>
            <a:chExt cx="5171040" cy="2514600"/>
          </a:xfrm>
        </p:grpSpPr>
        <p:grpSp>
          <p:nvGrpSpPr>
            <p:cNvPr id="348" name=""/>
            <p:cNvGrpSpPr/>
            <p:nvPr/>
          </p:nvGrpSpPr>
          <p:grpSpPr>
            <a:xfrm>
              <a:off x="6232320" y="3352680"/>
              <a:ext cx="1148400" cy="838440"/>
              <a:chOff x="6232320" y="3352680"/>
              <a:chExt cx="1148400" cy="838440"/>
            </a:xfrm>
          </p:grpSpPr>
          <p:sp>
            <p:nvSpPr>
              <p:cNvPr id="349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32320" y="339624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209680" y="2895480"/>
              <a:ext cx="4114800" cy="2514600"/>
              <a:chOff x="2209680" y="2895480"/>
              <a:chExt cx="4114800" cy="2514600"/>
            </a:xfrm>
          </p:grpSpPr>
          <p:sp>
            <p:nvSpPr>
              <p:cNvPr id="352" name=""/>
              <p:cNvSpPr/>
              <p:nvPr/>
            </p:nvSpPr>
            <p:spPr>
              <a:xfrm flipH="1">
                <a:off x="2209680" y="4800600"/>
                <a:ext cx="4114800" cy="609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52880" y="3882240"/>
                <a:ext cx="12657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tion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flipV="1">
                <a:off x="2666520" y="3047760"/>
                <a:ext cx="3581640" cy="15238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flipV="1">
                <a:off x="5105520" y="2895480"/>
                <a:ext cx="1218960" cy="15242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6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02000" y="2054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2880" y="472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01280" y="25884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296360" y="502596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6240" y="1826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44480" y="22071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n’t require a special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itable for fine grained secure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ssible to know all possible communication partn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ormous overhead with popular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tifying Partner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over network to reach (nearby) communication part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(C+1)t + [T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needed to update all communication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needed to migrate to new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Time needed to update name server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33720" y="4343400"/>
            <a:ext cx="41148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77800" y="41886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15238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17524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34264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288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478200" y="4340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73400" y="426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4343400"/>
            <a:ext cx="411480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48520" y="41911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7800" y="41886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15238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752480" y="3124080"/>
            <a:ext cx="0" cy="9907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066680" y="342648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tch ad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514600" y="2282760"/>
            <a:ext cx="4866120" cy="1908360"/>
            <a:chOff x="2514600" y="2282760"/>
            <a:chExt cx="4866120" cy="1908360"/>
          </a:xfrm>
        </p:grpSpPr>
        <p:sp>
          <p:nvSpPr>
            <p:cNvPr id="396" name=""/>
            <p:cNvSpPr/>
            <p:nvPr/>
          </p:nvSpPr>
          <p:spPr>
            <a:xfrm>
              <a:off x="6232320" y="3396240"/>
              <a:ext cx="11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2514600" y="2282760"/>
              <a:ext cx="4267080" cy="1908360"/>
              <a:chOff x="2514600" y="2282760"/>
              <a:chExt cx="4267080" cy="1908360"/>
            </a:xfrm>
          </p:grpSpPr>
          <p:sp>
            <p:nvSpPr>
              <p:cNvPr id="398" name=""/>
              <p:cNvSpPr/>
              <p:nvPr/>
            </p:nvSpPr>
            <p:spPr>
              <a:xfrm>
                <a:off x="6781680" y="3352680"/>
                <a:ext cx="0" cy="83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2514600" y="2282760"/>
                <a:ext cx="3657600" cy="825480"/>
                <a:chOff x="2514600" y="2282760"/>
                <a:chExt cx="3657600" cy="82548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flipV="1">
                  <a:off x="2514600" y="2514240"/>
                  <a:ext cx="3657600" cy="3049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504600" y="2282760"/>
                  <a:ext cx="19270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end location </a:t>
                  </a:r>
                  <a:br>
                    <a:rPr sz="2400"/>
                  </a:b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pdat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02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74000" y="396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9288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373400" y="4264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y implem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ing mechanism is independent of naming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updates are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lookups are s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bile Multi Agent Syste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: interconnection of ag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de Area Networ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e grained component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t migration of compon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 &amp; rout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up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d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grat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209680" y="4495680"/>
            <a:ext cx="2667240" cy="990720"/>
            <a:chOff x="2209680" y="4495680"/>
            <a:chExt cx="2667240" cy="990720"/>
          </a:xfrm>
        </p:grpSpPr>
        <p:sp>
          <p:nvSpPr>
            <p:cNvPr id="416" name=""/>
            <p:cNvSpPr/>
            <p:nvPr/>
          </p:nvSpPr>
          <p:spPr>
            <a:xfrm>
              <a:off x="2209680" y="4495680"/>
              <a:ext cx="266724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67960" y="4721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m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06600" y="548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4495680"/>
            <a:ext cx="2667240" cy="990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67960" y="472176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14600" y="2282760"/>
            <a:ext cx="4577040" cy="3279960"/>
            <a:chOff x="2514600" y="2282760"/>
            <a:chExt cx="4577040" cy="3279960"/>
          </a:xfrm>
        </p:grpSpPr>
        <p:grpSp>
          <p:nvGrpSpPr>
            <p:cNvPr id="440" name=""/>
            <p:cNvGrpSpPr/>
            <p:nvPr/>
          </p:nvGrpSpPr>
          <p:grpSpPr>
            <a:xfrm>
              <a:off x="2514600" y="2282760"/>
              <a:ext cx="3657600" cy="825480"/>
              <a:chOff x="2514600" y="2282760"/>
              <a:chExt cx="3657600" cy="825480"/>
            </a:xfrm>
          </p:grpSpPr>
          <p:sp>
            <p:nvSpPr>
              <p:cNvPr id="441" name=""/>
              <p:cNvSpPr/>
              <p:nvPr/>
            </p:nvSpPr>
            <p:spPr>
              <a:xfrm flipH="1" flipV="1">
                <a:off x="2514600" y="2514240"/>
                <a:ext cx="3657600" cy="30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454200" y="2282760"/>
                <a:ext cx="2027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nd Location 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pd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5867280" y="3352680"/>
              <a:ext cx="1224360" cy="2210040"/>
              <a:chOff x="5867280" y="3352680"/>
              <a:chExt cx="1224360" cy="2210040"/>
            </a:xfrm>
          </p:grpSpPr>
          <p:sp>
            <p:nvSpPr>
              <p:cNvPr id="444" name=""/>
              <p:cNvSpPr/>
              <p:nvPr/>
            </p:nvSpPr>
            <p:spPr>
              <a:xfrm flipH="1">
                <a:off x="5867280" y="3352680"/>
                <a:ext cx="914400" cy="2210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943240" y="4035960"/>
                <a:ext cx="1148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gr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6172200" y="2362320"/>
            <a:ext cx="106668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43000" y="4114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09680" y="4495680"/>
            <a:ext cx="2667240" cy="990720"/>
            <a:chOff x="2209680" y="4495680"/>
            <a:chExt cx="2667240" cy="990720"/>
          </a:xfrm>
        </p:grpSpPr>
        <p:sp>
          <p:nvSpPr>
            <p:cNvPr id="450" name=""/>
            <p:cNvSpPr/>
            <p:nvPr/>
          </p:nvSpPr>
          <p:spPr>
            <a:xfrm>
              <a:off x="2209680" y="4495680"/>
              <a:ext cx="2667240" cy="990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67960" y="472176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ms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990720" y="2286000"/>
            <a:ext cx="15238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514600" y="2282760"/>
            <a:ext cx="3657600" cy="825480"/>
            <a:chOff x="2514600" y="2282760"/>
            <a:chExt cx="3657600" cy="825480"/>
          </a:xfrm>
        </p:grpSpPr>
        <p:sp>
          <p:nvSpPr>
            <p:cNvPr id="454" name=""/>
            <p:cNvSpPr/>
            <p:nvPr/>
          </p:nvSpPr>
          <p:spPr>
            <a:xfrm flipH="1" flipV="1">
              <a:off x="2514600" y="2514240"/>
              <a:ext cx="365760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54200" y="2282760"/>
              <a:ext cx="2027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nd Location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4800600" y="5257800"/>
            <a:ext cx="1066680" cy="9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22080" y="22071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107320" y="4874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068840" y="3883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01880" y="2512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68480" y="2282760"/>
            <a:ext cx="97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 -&gt; A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 -&gt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6360" y="4187880"/>
            <a:ext cx="7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-&gt;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867280" y="3352680"/>
            <a:ext cx="1224360" cy="2210040"/>
            <a:chOff x="5867280" y="3352680"/>
            <a:chExt cx="1224360" cy="2210040"/>
          </a:xfrm>
        </p:grpSpPr>
        <p:sp>
          <p:nvSpPr>
            <p:cNvPr id="464" name=""/>
            <p:cNvSpPr/>
            <p:nvPr/>
          </p:nvSpPr>
          <p:spPr>
            <a:xfrm flipH="1">
              <a:off x="5867280" y="3352680"/>
              <a:ext cx="914400" cy="2210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43240" y="4035960"/>
              <a:ext cx="114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ig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520" y="3123720"/>
            <a:ext cx="4873320" cy="2896200"/>
            <a:chOff x="1676520" y="3123720"/>
            <a:chExt cx="4873320" cy="2896200"/>
          </a:xfrm>
        </p:grpSpPr>
        <p:grpSp>
          <p:nvGrpSpPr>
            <p:cNvPr id="467" name=""/>
            <p:cNvGrpSpPr/>
            <p:nvPr/>
          </p:nvGrpSpPr>
          <p:grpSpPr>
            <a:xfrm>
              <a:off x="2057040" y="3123720"/>
              <a:ext cx="3048480" cy="2210040"/>
              <a:chOff x="2057040" y="3123720"/>
              <a:chExt cx="3048480" cy="2210040"/>
            </a:xfrm>
          </p:grpSpPr>
          <p:sp>
            <p:nvSpPr>
              <p:cNvPr id="468" name=""/>
              <p:cNvSpPr/>
              <p:nvPr/>
            </p:nvSpPr>
            <p:spPr>
              <a:xfrm flipH="1" flipV="1">
                <a:off x="2057040" y="3123720"/>
                <a:ext cx="2895480" cy="2210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 flipV="1">
                <a:off x="2286000" y="3123720"/>
                <a:ext cx="2819520" cy="22100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514600" y="3807360"/>
                <a:ext cx="1477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etch add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335920" y="3200040"/>
              <a:ext cx="1213920" cy="2133720"/>
              <a:chOff x="5335920" y="3200040"/>
              <a:chExt cx="1213920" cy="2133720"/>
            </a:xfrm>
          </p:grpSpPr>
          <p:sp>
            <p:nvSpPr>
              <p:cNvPr id="472" name=""/>
              <p:cNvSpPr/>
              <p:nvPr/>
            </p:nvSpPr>
            <p:spPr>
              <a:xfrm flipV="1">
                <a:off x="5562720" y="3200040"/>
                <a:ext cx="838080" cy="2133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35920" y="449316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war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676520" y="5105520"/>
              <a:ext cx="3200400" cy="914400"/>
              <a:chOff x="1676520" y="5105520"/>
              <a:chExt cx="3200400" cy="914400"/>
            </a:xfrm>
          </p:grpSpPr>
          <p:sp>
            <p:nvSpPr>
              <p:cNvPr id="475" name=""/>
              <p:cNvSpPr/>
              <p:nvPr/>
            </p:nvSpPr>
            <p:spPr>
              <a:xfrm flipH="1" flipV="1">
                <a:off x="1676520" y="5105520"/>
                <a:ext cx="3200400" cy="9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590560" y="5407560"/>
                <a:ext cx="15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valid a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n’t require special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ult tole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gents migrate frequently this solution takes too much overh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a nameser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ame Serving/Cach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ssage send: t + (T+2t)m/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to send mes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m/n of the c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name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ward mess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 sen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ent move: T + 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to migrate ag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 name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143000" y="5029200"/>
            <a:ext cx="1218960" cy="990720"/>
            <a:chOff x="1143000" y="5029200"/>
            <a:chExt cx="1218960" cy="990720"/>
          </a:xfrm>
        </p:grpSpPr>
        <p:sp>
          <p:nvSpPr>
            <p:cNvPr id="483" name=""/>
            <p:cNvSpPr/>
            <p:nvPr/>
          </p:nvSpPr>
          <p:spPr>
            <a:xfrm>
              <a:off x="1143000" y="5029200"/>
              <a:ext cx="121896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43000" y="5105520"/>
              <a:ext cx="12189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 flipV="1">
            <a:off x="1981080" y="3885840"/>
            <a:ext cx="2057400" cy="1219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038480" y="3200400"/>
            <a:ext cx="1828440" cy="990720"/>
            <a:chOff x="4038480" y="3200400"/>
            <a:chExt cx="1828440" cy="990720"/>
          </a:xfrm>
        </p:grpSpPr>
        <p:sp>
          <p:nvSpPr>
            <p:cNvPr id="487" name=""/>
            <p:cNvSpPr/>
            <p:nvPr/>
          </p:nvSpPr>
          <p:spPr>
            <a:xfrm>
              <a:off x="4038480" y="3200400"/>
              <a:ext cx="18284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38480" y="3276720"/>
              <a:ext cx="18284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5638680" y="4952880"/>
            <a:ext cx="1371240" cy="990720"/>
            <a:chOff x="5638680" y="4952880"/>
            <a:chExt cx="1371240" cy="990720"/>
          </a:xfrm>
        </p:grpSpPr>
        <p:sp>
          <p:nvSpPr>
            <p:cNvPr id="490" name=""/>
            <p:cNvSpPr/>
            <p:nvPr/>
          </p:nvSpPr>
          <p:spPr>
            <a:xfrm>
              <a:off x="5638680" y="4952880"/>
              <a:ext cx="137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638680" y="5029200"/>
              <a:ext cx="1371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7086600" y="1905120"/>
            <a:ext cx="1066680" cy="990360"/>
            <a:chOff x="7086600" y="1905120"/>
            <a:chExt cx="1066680" cy="990360"/>
          </a:xfrm>
        </p:grpSpPr>
        <p:sp>
          <p:nvSpPr>
            <p:cNvPr id="493" name=""/>
            <p:cNvSpPr/>
            <p:nvPr/>
          </p:nvSpPr>
          <p:spPr>
            <a:xfrm>
              <a:off x="7086600" y="19051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86600" y="198108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7772400" y="3886200"/>
            <a:ext cx="1066680" cy="990720"/>
            <a:chOff x="7772400" y="3886200"/>
            <a:chExt cx="1066680" cy="990720"/>
          </a:xfrm>
        </p:grpSpPr>
        <p:sp>
          <p:nvSpPr>
            <p:cNvPr id="496" name=""/>
            <p:cNvSpPr/>
            <p:nvPr/>
          </p:nvSpPr>
          <p:spPr>
            <a:xfrm>
              <a:off x="7772400" y="3886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72400" y="3962520"/>
              <a:ext cx="10666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V="1">
            <a:off x="5638680" y="2666880"/>
            <a:ext cx="1447920" cy="6098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077320" y="2819520"/>
            <a:ext cx="533160" cy="1143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088760" y="1597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965040" y="28170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470000" y="35787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93600" y="46458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9200" y="52552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A.B.D: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7520" y="44931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773840" y="4112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.D: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362320" y="411480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86728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867280" y="4114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 flipV="1">
            <a:off x="76957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0" y="3502800"/>
            <a:ext cx="4567680" cy="2135880"/>
            <a:chOff x="2286000" y="3502800"/>
            <a:chExt cx="4567680" cy="2135880"/>
          </a:xfrm>
        </p:grpSpPr>
        <p:sp>
          <p:nvSpPr>
            <p:cNvPr id="512" name=""/>
            <p:cNvSpPr/>
            <p:nvPr/>
          </p:nvSpPr>
          <p:spPr>
            <a:xfrm flipV="1">
              <a:off x="2286000" y="4114440"/>
              <a:ext cx="205740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86400" y="4114800"/>
              <a:ext cx="3049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0280" y="350280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 -&gt;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41200" y="517896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5029200"/>
            <a:ext cx="1218960" cy="990720"/>
            <a:chOff x="1143000" y="5029200"/>
            <a:chExt cx="1218960" cy="990720"/>
          </a:xfrm>
        </p:grpSpPr>
        <p:sp>
          <p:nvSpPr>
            <p:cNvPr id="518" name=""/>
            <p:cNvSpPr/>
            <p:nvPr/>
          </p:nvSpPr>
          <p:spPr>
            <a:xfrm>
              <a:off x="1143000" y="5029200"/>
              <a:ext cx="121896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3000" y="5105520"/>
              <a:ext cx="121896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 flipV="1">
            <a:off x="1981080" y="3885840"/>
            <a:ext cx="2057400" cy="121932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4038480" y="3200400"/>
            <a:ext cx="1828440" cy="990720"/>
            <a:chOff x="4038480" y="3200400"/>
            <a:chExt cx="1828440" cy="990720"/>
          </a:xfrm>
        </p:grpSpPr>
        <p:sp>
          <p:nvSpPr>
            <p:cNvPr id="522" name=""/>
            <p:cNvSpPr/>
            <p:nvPr/>
          </p:nvSpPr>
          <p:spPr>
            <a:xfrm>
              <a:off x="4038480" y="3200400"/>
              <a:ext cx="18284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38480" y="3276720"/>
              <a:ext cx="18284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638680" y="4952880"/>
            <a:ext cx="1371240" cy="990720"/>
            <a:chOff x="5638680" y="4952880"/>
            <a:chExt cx="1371240" cy="990720"/>
          </a:xfrm>
        </p:grpSpPr>
        <p:sp>
          <p:nvSpPr>
            <p:cNvPr id="525" name=""/>
            <p:cNvSpPr/>
            <p:nvPr/>
          </p:nvSpPr>
          <p:spPr>
            <a:xfrm>
              <a:off x="5638680" y="4952880"/>
              <a:ext cx="137124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38680" y="5029200"/>
              <a:ext cx="13712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7086600" y="1905120"/>
            <a:ext cx="1066680" cy="990360"/>
            <a:chOff x="7086600" y="1905120"/>
            <a:chExt cx="1066680" cy="990360"/>
          </a:xfrm>
        </p:grpSpPr>
        <p:sp>
          <p:nvSpPr>
            <p:cNvPr id="528" name=""/>
            <p:cNvSpPr/>
            <p:nvPr/>
          </p:nvSpPr>
          <p:spPr>
            <a:xfrm>
              <a:off x="7086600" y="1905120"/>
              <a:ext cx="106668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86600" y="198108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7772400" y="3886200"/>
            <a:ext cx="1066680" cy="990720"/>
            <a:chOff x="7772400" y="3886200"/>
            <a:chExt cx="1066680" cy="990720"/>
          </a:xfrm>
        </p:grpSpPr>
        <p:sp>
          <p:nvSpPr>
            <p:cNvPr id="531" name=""/>
            <p:cNvSpPr/>
            <p:nvPr/>
          </p:nvSpPr>
          <p:spPr>
            <a:xfrm>
              <a:off x="7772400" y="3886200"/>
              <a:ext cx="1066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72400" y="3962520"/>
              <a:ext cx="10666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 flipV="1">
            <a:off x="5638680" y="2666880"/>
            <a:ext cx="1447920" cy="6098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077320" y="2819520"/>
            <a:ext cx="533160" cy="114300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88760" y="1597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965040" y="281700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470000" y="3578760"/>
            <a:ext cx="6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C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93600" y="464580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A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17520" y="44931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Times New Roman"/>
              </a:rPr>
              <a:t>E.B.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773840" y="4112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C.D: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362320" y="411480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867280" y="281952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867280" y="41148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7695720" y="28954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0" y="3502800"/>
            <a:ext cx="4567680" cy="2135880"/>
            <a:chOff x="2286000" y="3502800"/>
            <a:chExt cx="4567680" cy="2135880"/>
          </a:xfrm>
        </p:grpSpPr>
        <p:sp>
          <p:nvSpPr>
            <p:cNvPr id="546" name=""/>
            <p:cNvSpPr/>
            <p:nvPr/>
          </p:nvSpPr>
          <p:spPr>
            <a:xfrm flipV="1">
              <a:off x="2286000" y="4114440"/>
              <a:ext cx="205740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86400" y="4114800"/>
              <a:ext cx="30492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040280" y="350280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 -&gt;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641200" y="5178960"/>
              <a:ext cx="121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A.B.D: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Merging Nameserving &amp; Routing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s messages in O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s agents in O(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special ‘hierarchical’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Estim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Message Send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Agent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otfy partn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C+1).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S &amp; Cach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T+2t).m/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otfy con pa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T.n/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+ (C+1).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Verdana"/>
              </a:rPr>
              <a:t>NS &amp; Rout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"/>
          <p:cNvSpPr/>
          <p:nvPr/>
        </p:nvSpPr>
        <p:spPr>
          <a:xfrm>
            <a:off x="2590920" y="198108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19810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Bor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at PRO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al is to implement a light weight MMAS for research purpo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try to achieve as much transparency a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cation transpar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ong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sed upon an interpreted language P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533520" y="19051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533520" y="25146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30481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581280"/>
            <a:ext cx="75438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533520" y="41148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533520" y="4724280"/>
            <a:ext cx="75438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533520" y="525780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533520" y="5791320"/>
            <a:ext cx="75438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Stop the execution of an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Gather its ‘state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Remove the agent from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 Send its entire ‘state’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. Receiv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 Create an age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 Restore its entire s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 Start running the ag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1219320" y="4648320"/>
            <a:ext cx="45720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rong Migrati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78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: capturing the execution state of 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running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consist o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-23436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time Stack &amp; 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4648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71200" y="493560"/>
            <a:ext cx="81630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Non Interpreted Environment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memcpy of the proces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inters to the operating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terogeneous archite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654840" y="4356360"/>
            <a:ext cx="723708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 need an interpreted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fra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ry agent system has a unique hierarchical name;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g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oid.tec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erarchical interconnection between agent systems forms a mobile multi agent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71200" y="311040"/>
            <a:ext cx="81630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erpreted Environment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erialisa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inters to system dependent resources (user interface, disc access, etc..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s to other ag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lobals in the evalu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" y="4033440"/>
            <a:ext cx="8305920" cy="1922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 independent seria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xed connections with system dependent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hate all system resources as agents which cannot mig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nection oriented 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aluator sto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local or glob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time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time stack of the interpreter grows as the evaluation contin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036440" y="2953080"/>
            <a:ext cx="780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evaluate(Object 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if (ag instanceof Appli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Object closure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valu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g.application(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[] args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evalarg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g.args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closure.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appl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gs)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g instanceof Identifier) return lookup(ag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g instanceof Integer) return a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4160" y="4874760"/>
            <a:ext cx="711324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or uses its own runtime stack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e a stack for the evaluated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untime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se stack frames are almost impossible to serial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turing the instruction pointer is almos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erializing is difficult because we have to create a new valid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c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umping to the new instruction pointer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380880" y="4876200"/>
            <a:ext cx="8229600" cy="13737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icit stack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 the evaluator in Continuation Passing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ify the stack in the evaluated languag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sta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ation stack (what do I need to do in the futu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 stack (the expressions accompaigning the continu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fore calling a contin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ack contains the arguments this continuation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 stac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ation stack (what do I need to do in the futu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on stack (the expressions accompaigning the continua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ter calling a continu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top of the stack contains the result of the conti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_CNT, Pop_EX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ves and returns value at top of expression/continuation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_CNT, Push_EX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s value at top of expression/continuation stac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ek_CNT, Peek_EX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urns value at top of continuation/expression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ke_CNT, Poke_EX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value at top of expression/continuation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-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1596600" y="2666520"/>
            <a:ext cx="3807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(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CNT:POP_C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NT.invoke(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" y="2362320"/>
            <a:ext cx="13860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00200" y="2362320"/>
            <a:ext cx="8380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8600" y="3276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286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31978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79040" y="3197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47560" y="4724280"/>
            <a:ext cx="83844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371600" y="4724280"/>
            <a:ext cx="83808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5638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3520" y="5181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450440" y="55602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th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2896920" y="3045240"/>
            <a:ext cx="58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evaluat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exp=PEEK_EXP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Integer) 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Identifie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POKE_EXP(lookup(exp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xplicit Stack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2362320"/>
            <a:ext cx="13860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00200" y="2362320"/>
            <a:ext cx="83808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" y="32767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8600" y="2819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28600" y="3197880"/>
            <a:ext cx="14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79040" y="31978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371600" y="38098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19520" y="205740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 th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"/>
          <p:cNvSpPr/>
          <p:nvPr/>
        </p:nvSpPr>
        <p:spPr>
          <a:xfrm>
            <a:off x="3506760" y="2495160"/>
            <a:ext cx="52099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evaluate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exp instanceof Applica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Object [] args=exp.args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 apl=exp.applicatio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KE_EXP(a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appl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evalua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EXP(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swa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_CNT(evalarg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04920" y="4724280"/>
            <a:ext cx="138564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676520" y="4724280"/>
            <a:ext cx="990360" cy="1295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920" y="5638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049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556020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4920" y="51789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4920" y="4721760"/>
            <a:ext cx="14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679040" y="556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29360" y="51789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XP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5867280" y="2590920"/>
            <a:ext cx="304812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011960" y="49503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70960" y="4950360"/>
            <a:ext cx="2354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nfrastructur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5867280" y="2590920"/>
            <a:ext cx="304812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7391520" y="2590920"/>
            <a:ext cx="13716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391520" y="2590920"/>
            <a:ext cx="609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77320" y="2590920"/>
            <a:ext cx="609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63040" y="4340880"/>
            <a:ext cx="14716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200+3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011240" y="312156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372040" y="495036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63400" y="434088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13040" y="3731400"/>
            <a:ext cx="80712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002600" y="4340880"/>
            <a:ext cx="11988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363400" y="495036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362320" y="4340880"/>
            <a:ext cx="10630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391520" y="2590920"/>
            <a:ext cx="12952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013400" y="4950360"/>
            <a:ext cx="8589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63400" y="4950360"/>
            <a:ext cx="8420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[50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362320" y="4340880"/>
            <a:ext cx="146088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ative #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tack Tra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"/>
          <p:cNvSpPr/>
          <p:nvPr/>
        </p:nvSpPr>
        <p:spPr>
          <a:xfrm>
            <a:off x="7390800" y="182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9829800" y="3733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943600" y="2590920"/>
            <a:ext cx="289548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66560" y="2664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play(200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63040" y="4950360"/>
            <a:ext cx="90936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50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71200" y="981000"/>
            <a:ext cx="8163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Reification of the Runtime Stack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snapshot of the complete execution state can be taken, just by serializing the runtime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s strong mo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urrency can be managed within the evaluated language with primitives such as capture and res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62120" y="607680"/>
            <a:ext cx="8162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Verdana"/>
              </a:rPr>
              <a:t>Cborg</a:t>
            </a:r>
            <a:endParaRPr b="0" lang="en-US" sz="6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577440" y="2057040"/>
            <a:ext cx="8566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progwww.vub.ac.be/pools/cbor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ner.van.belle@vub.ac.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rsten.verelst@vub.ac.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jdhondt@vub.ac.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 CBorg Ag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ject Orien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wn Code &amp; Data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Threa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s run concurrent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send messages to other ag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migrate to other agent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ten in P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ICO/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Standard Stuff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:9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[10]: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(a,b,c):display(a+b+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:=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[67]:=8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0T13:12:40Z</dcterms:created>
  <dc:creator>Werner Van Belle</dc:creator>
  <dc:description/>
  <dc:language>en-US</dc:language>
  <cp:lastModifiedBy>werner van belle</cp:lastModifiedBy>
  <dcterms:modified xsi:type="dcterms:W3CDTF">2000-06-09T13:55:02Z</dcterms:modified>
  <cp:revision>24</cp:revision>
  <dc:subject/>
  <dc:title> Location Transparent Routing in Mobile Agent Systems </dc:title>
</cp:coreProperties>
</file>